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5.png" ContentType="image/png"/>
  <Override PartName="/ppt/media/image36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30.jpeg" ContentType="image/jpeg"/>
  <Override PartName="/ppt/media/image3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9.png" ContentType="image/png"/>
  <Override PartName="/ppt/media/image39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25.png" ContentType="image/png"/>
  <Override PartName="/ppt/media/image42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2F7D-B283-4AF3-804A-76615BD2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79F-6DC6-4D65-BBAA-8C88419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3444-76B4-432E-B0CE-97A47176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521-7563-41A4-9F16-AE821454E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C04F-7D65-4528-8D77-0A6AE72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DAE-3341-41E2-A5D2-61CD8845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178B-7B34-40EF-87A7-5C4BD08B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FE5B-D50A-4097-874F-5638F345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590-E463-4290-8D68-AD4FC218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E79-E94C-4D93-8364-BC288EDF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C3A-BA75-4875-A12F-F28957F8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FA01-EAE9-45F9-9DBF-37A5E222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5382-5C4A-4405-B79D-4DE4E04A7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418680" y="2527200"/>
            <a:ext cx="8318880" cy="1739880"/>
            <a:chOff x="418680" y="2527200"/>
            <a:chExt cx="8318880" cy="1739880"/>
          </a:xfrm>
        </p:grpSpPr>
        <p:sp>
          <p:nvSpPr>
            <p:cNvPr id="46" name=""/>
            <p:cNvSpPr/>
            <p:nvPr/>
          </p:nvSpPr>
          <p:spPr>
            <a:xfrm>
              <a:off x="4473360" y="2533320"/>
              <a:ext cx="184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8680" y="2527200"/>
              <a:ext cx="83188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Mesoscale eddy activity in high resolutio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orth Atlantic MICOM and HYCOM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cc"/>
                  </a:solidFill>
                  <a:latin typeface="Times New Roman"/>
                </a:rPr>
                <a:t>numerical simulation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420360" y="464832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GS 2002, 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6960" y="574560"/>
            <a:ext cx="7707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25,000 isobaric float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1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Brazil Current ring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Garraffo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Stream separ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and Garraffo,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e Water form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and Chassignet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diterranean outlow/meddi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padakis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turning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Chassignet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lf of Mexico Loop Curren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Romanou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ribbean inflows/out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H variabilit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aiva et al.,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rador Sea Circulation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Theetten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face equatorial wave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Foltz et al., 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florida_straits" descr=""/>
          <p:cNvPicPr/>
          <p:nvPr/>
        </p:nvPicPr>
        <p:blipFill>
          <a:blip r:embed="rId1"/>
          <a:srcRect l="6534" t="20205" r="6534" b="30303"/>
          <a:stretch/>
        </p:blipFill>
        <p:spPr>
          <a:xfrm>
            <a:off x="152280" y="228600"/>
            <a:ext cx="8839440" cy="6513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25200" y="6172200"/>
            <a:ext cx="54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gmeta.florida.run3" descr=""/>
          <p:cNvPicPr/>
          <p:nvPr/>
        </p:nvPicPr>
        <p:blipFill>
          <a:blip r:embed="rId1"/>
          <a:stretch/>
        </p:blipFill>
        <p:spPr>
          <a:xfrm>
            <a:off x="-838080" y="-2971800"/>
            <a:ext cx="10950480" cy="14169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560" y="6477120"/>
            <a:ext cx="35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248520"/>
            <a:ext cx="1043280" cy="662040"/>
          </a:xfrm>
          <a:custGeom>
            <a:avLst/>
            <a:gdLst>
              <a:gd name="textAreaLeft" fmla="*/ 42840 w 1043280"/>
              <a:gd name="textAreaRight" fmla="*/ 1000440 w 104328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32" h="21600">
                <a:moveTo>
                  <a:pt x="0" y="0"/>
                </a:moveTo>
                <a:lnTo>
                  <a:pt x="34032" y="0"/>
                </a:lnTo>
                <a:lnTo>
                  <a:pt x="34032" y="21600"/>
                </a:lnTo>
                <a:lnTo>
                  <a:pt x="0" y="21600"/>
                </a:lnTo>
                <a:close/>
              </a:path>
              <a:path fill="lightenLess" w="34032" h="21600">
                <a:moveTo>
                  <a:pt x="0" y="0"/>
                </a:moveTo>
                <a:lnTo>
                  <a:pt x="34032" y="0"/>
                </a:lnTo>
                <a:lnTo>
                  <a:pt x="32632" y="1400"/>
                </a:lnTo>
                <a:lnTo>
                  <a:pt x="1400" y="1400"/>
                </a:lnTo>
                <a:close/>
              </a:path>
              <a:path fill="darken" w="34032" h="21600">
                <a:moveTo>
                  <a:pt x="34032" y="0"/>
                </a:moveTo>
                <a:lnTo>
                  <a:pt x="34032" y="21600"/>
                </a:lnTo>
                <a:lnTo>
                  <a:pt x="32632" y="20200"/>
                </a:lnTo>
                <a:lnTo>
                  <a:pt x="32632" y="1400"/>
                </a:lnTo>
                <a:close/>
              </a:path>
              <a:path fill="darkenLess" w="34032" h="21600">
                <a:moveTo>
                  <a:pt x="34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32" y="20200"/>
                </a:lnTo>
                <a:close/>
              </a:path>
              <a:path fill="lighten" w="34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32" h="21600">
                <a:moveTo>
                  <a:pt x="10009" y="7301"/>
                </a:moveTo>
                <a:lnTo>
                  <a:pt x="10923" y="7301"/>
                </a:lnTo>
                <a:lnTo>
                  <a:pt x="11306" y="7667"/>
                </a:lnTo>
                <a:lnTo>
                  <a:pt x="20515" y="7667"/>
                </a:lnTo>
                <a:lnTo>
                  <a:pt x="21072" y="8224"/>
                </a:lnTo>
                <a:lnTo>
                  <a:pt x="21072" y="8772"/>
                </a:lnTo>
                <a:lnTo>
                  <a:pt x="22917" y="8772"/>
                </a:lnTo>
                <a:lnTo>
                  <a:pt x="23283" y="8224"/>
                </a:lnTo>
                <a:lnTo>
                  <a:pt x="24022" y="8224"/>
                </a:lnTo>
                <a:lnTo>
                  <a:pt x="24022" y="13376"/>
                </a:lnTo>
                <a:lnTo>
                  <a:pt x="23283" y="13376"/>
                </a:lnTo>
                <a:lnTo>
                  <a:pt x="22917" y="12828"/>
                </a:lnTo>
                <a:lnTo>
                  <a:pt x="21072" y="12828"/>
                </a:lnTo>
                <a:lnTo>
                  <a:pt x="21072" y="14107"/>
                </a:lnTo>
                <a:lnTo>
                  <a:pt x="11489" y="14107"/>
                </a:lnTo>
                <a:lnTo>
                  <a:pt x="11489" y="9877"/>
                </a:lnTo>
                <a:lnTo>
                  <a:pt x="11306" y="9877"/>
                </a:lnTo>
                <a:lnTo>
                  <a:pt x="10923" y="10243"/>
                </a:lnTo>
                <a:lnTo>
                  <a:pt x="10009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59240" y="5486400"/>
            <a:ext cx="319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topex_new.atl" descr=""/>
          <p:cNvPicPr/>
          <p:nvPr/>
        </p:nvPicPr>
        <p:blipFill>
          <a:blip r:embed="rId2"/>
          <a:srcRect l="3267" t="0" r="0" b="0"/>
          <a:stretch/>
        </p:blipFill>
        <p:spPr>
          <a:xfrm>
            <a:off x="4572000" y="304920"/>
            <a:ext cx="4572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863680" y="556272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opex_new.atl" descr=""/>
          <p:cNvPicPr/>
          <p:nvPr/>
        </p:nvPicPr>
        <p:blipFill>
          <a:blip r:embed="rId1"/>
          <a:srcRect l="3267" t="0" r="0" b="0"/>
          <a:stretch/>
        </p:blipFill>
        <p:spPr>
          <a:xfrm>
            <a:off x="4572000" y="228600"/>
            <a:ext cx="4572000" cy="5715000"/>
          </a:xfrm>
          <a:prstGeom prst="rect">
            <a:avLst/>
          </a:prstGeom>
          <a:ln w="0">
            <a:noFill/>
          </a:ln>
        </p:spPr>
      </p:pic>
      <p:pic>
        <p:nvPicPr>
          <p:cNvPr id="110" name="st.yr1979.eta" descr=""/>
          <p:cNvPicPr/>
          <p:nvPr/>
        </p:nvPicPr>
        <p:blipFill>
          <a:blip r:embed="rId2"/>
          <a:stretch/>
        </p:blipFill>
        <p:spPr>
          <a:xfrm>
            <a:off x="254160" y="838080"/>
            <a:ext cx="424152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143720" y="5486400"/>
            <a:ext cx="239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63680" y="563868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OPEX / ER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2680" y="371520"/>
            <a:ext cx="83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rainment parameterization using Hallberg (2000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licit solver using Turner’s  (1986) entrain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 (based on Richardson numb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82200" y="3089160"/>
            <a:ext cx="35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terranean out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mark Straits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3886200"/>
            <a:ext cx="1043280" cy="585720"/>
          </a:xfrm>
          <a:custGeom>
            <a:avLst/>
            <a:gdLst>
              <a:gd name="textAreaLeft" fmla="*/ 37800 w 1043280"/>
              <a:gd name="textAreaRight" fmla="*/ 1005480 w 104328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38463" h="21600">
                <a:moveTo>
                  <a:pt x="0" y="0"/>
                </a:moveTo>
                <a:lnTo>
                  <a:pt x="38463" y="0"/>
                </a:lnTo>
                <a:lnTo>
                  <a:pt x="38463" y="21600"/>
                </a:lnTo>
                <a:lnTo>
                  <a:pt x="0" y="21600"/>
                </a:lnTo>
                <a:close/>
              </a:path>
              <a:path fill="lightenLess" w="38463" h="21600">
                <a:moveTo>
                  <a:pt x="0" y="0"/>
                </a:moveTo>
                <a:lnTo>
                  <a:pt x="38463" y="0"/>
                </a:lnTo>
                <a:lnTo>
                  <a:pt x="37063" y="1400"/>
                </a:lnTo>
                <a:lnTo>
                  <a:pt x="1400" y="1400"/>
                </a:lnTo>
                <a:close/>
              </a:path>
              <a:path fill="darken" w="38463" h="21600">
                <a:moveTo>
                  <a:pt x="38463" y="0"/>
                </a:moveTo>
                <a:lnTo>
                  <a:pt x="38463" y="21600"/>
                </a:lnTo>
                <a:lnTo>
                  <a:pt x="37063" y="20200"/>
                </a:lnTo>
                <a:lnTo>
                  <a:pt x="37063" y="1400"/>
                </a:lnTo>
                <a:close/>
              </a:path>
              <a:path fill="darkenLess" w="38463" h="21600">
                <a:moveTo>
                  <a:pt x="38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063" y="20200"/>
                </a:lnTo>
                <a:close/>
              </a:path>
              <a:path fill="lighten" w="38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463" h="21600">
                <a:moveTo>
                  <a:pt x="12225" y="7301"/>
                </a:moveTo>
                <a:lnTo>
                  <a:pt x="13139" y="7301"/>
                </a:lnTo>
                <a:lnTo>
                  <a:pt x="13522" y="7667"/>
                </a:lnTo>
                <a:lnTo>
                  <a:pt x="22731" y="7667"/>
                </a:lnTo>
                <a:lnTo>
                  <a:pt x="23288" y="8224"/>
                </a:lnTo>
                <a:lnTo>
                  <a:pt x="23288" y="8772"/>
                </a:lnTo>
                <a:lnTo>
                  <a:pt x="25133" y="8772"/>
                </a:lnTo>
                <a:lnTo>
                  <a:pt x="25498" y="8224"/>
                </a:lnTo>
                <a:lnTo>
                  <a:pt x="26238" y="8224"/>
                </a:lnTo>
                <a:lnTo>
                  <a:pt x="26238" y="13376"/>
                </a:lnTo>
                <a:lnTo>
                  <a:pt x="25498" y="13376"/>
                </a:lnTo>
                <a:lnTo>
                  <a:pt x="25133" y="12828"/>
                </a:lnTo>
                <a:lnTo>
                  <a:pt x="23288" y="12828"/>
                </a:lnTo>
                <a:lnTo>
                  <a:pt x="23288" y="14107"/>
                </a:lnTo>
                <a:lnTo>
                  <a:pt x="13705" y="14107"/>
                </a:lnTo>
                <a:lnTo>
                  <a:pt x="13705" y="9877"/>
                </a:lnTo>
                <a:lnTo>
                  <a:pt x="13522" y="9877"/>
                </a:lnTo>
                <a:lnTo>
                  <a:pt x="13139" y="10243"/>
                </a:lnTo>
                <a:lnTo>
                  <a:pt x="12225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hi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Rxy.063" descr=""/>
          <p:cNvPicPr/>
          <p:nvPr/>
        </p:nvPicPr>
        <p:blipFill>
          <a:blip r:embed="rId1"/>
          <a:srcRect l="6534" t="15152" r="6534" b="15152"/>
          <a:stretch/>
        </p:blipFill>
        <p:spPr>
          <a:xfrm>
            <a:off x="1266840" y="0"/>
            <a:ext cx="661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707160" y="36360"/>
            <a:ext cx="2595600" cy="209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1371600"/>
            <a:ext cx="8839440" cy="42670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" y="5614920"/>
            <a:ext cx="3562200" cy="101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133960" y="5816520"/>
            <a:ext cx="3352680" cy="7365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473720" y="2527200"/>
            <a:ext cx="196200" cy="647640"/>
            <a:chOff x="4473720" y="2527200"/>
            <a:chExt cx="196200" cy="647640"/>
          </a:xfrm>
        </p:grpSpPr>
        <p:sp>
          <p:nvSpPr>
            <p:cNvPr id="55" name=""/>
            <p:cNvSpPr/>
            <p:nvPr/>
          </p:nvSpPr>
          <p:spPr>
            <a:xfrm>
              <a:off x="4473720" y="253332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485960" y="2527200"/>
              <a:ext cx="1839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648360" y="2851200"/>
            <a:ext cx="778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ric P. Chassignet, Patrick J. Hogan, Zulema D. Garraff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arley E. Hurlburt, Raffaele Ferrar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nd Alan J. Wall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micom2" descr=""/>
          <p:cNvPicPr/>
          <p:nvPr/>
        </p:nvPicPr>
        <p:blipFill>
          <a:blip r:embed="rId5"/>
          <a:stretch/>
        </p:blipFill>
        <p:spPr>
          <a:xfrm>
            <a:off x="152280" y="228600"/>
            <a:ext cx="61423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pdf" descr=""/>
          <p:cNvPicPr/>
          <p:nvPr/>
        </p:nvPicPr>
        <p:blipFill>
          <a:blip r:embed="rId1"/>
          <a:srcRect l="0" t="26147" r="68184" b="26147"/>
          <a:stretch/>
        </p:blipFill>
        <p:spPr>
          <a:xfrm>
            <a:off x="76320" y="-304920"/>
            <a:ext cx="4278240" cy="4957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40080" y="495288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orth-South PDF dis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8760" y="4232160"/>
            <a:ext cx="80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ific 25N-35N (Obs.)                  MICOM Atlantic 15N-40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2120" y="5756400"/>
            <a:ext cx="870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(PDF with MICOM from 25N to 35N is more skewed to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positive density ratio, but is otherwise similar to the above fig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Highres" descr=""/>
          <p:cNvPicPr/>
          <p:nvPr/>
        </p:nvPicPr>
        <p:blipFill>
          <a:blip r:embed="rId2"/>
          <a:srcRect l="0" t="51714" r="46952" b="0"/>
          <a:stretch/>
        </p:blipFill>
        <p:spPr>
          <a:xfrm>
            <a:off x="5181480" y="152280"/>
            <a:ext cx="338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vertical coordinate (σ-theta re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2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ed from year 5 of MI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MO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86760" y="182520"/>
            <a:ext cx="72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HY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sh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10640" cy="701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sh_8_139" descr=""/>
          <p:cNvPicPr/>
          <p:nvPr/>
        </p:nvPicPr>
        <p:blipFill>
          <a:blip r:embed="rId1"/>
          <a:stretch/>
        </p:blipFill>
        <p:spPr>
          <a:xfrm>
            <a:off x="1219320" y="-61920"/>
            <a:ext cx="6995880" cy="69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ssh_gs_8_211" descr=""/>
          <p:cNvPicPr/>
          <p:nvPr/>
        </p:nvPicPr>
        <p:blipFill>
          <a:blip r:embed="rId1"/>
          <a:stretch/>
        </p:blipFill>
        <p:spPr>
          <a:xfrm>
            <a:off x="380880" y="-1143000"/>
            <a:ext cx="8458200" cy="8458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8487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t.yr05.eta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4267080" cy="4091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744840" y="5486400"/>
            <a:ext cx="322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77080" y="5486400"/>
            <a:ext cx="327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HYCOM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t024-rms-ssh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ld_MN" descr=""/>
          <p:cNvPicPr/>
          <p:nvPr/>
        </p:nvPicPr>
        <p:blipFill>
          <a:blip r:embed="rId1"/>
          <a:stretch/>
        </p:blipFill>
        <p:spPr>
          <a:xfrm>
            <a:off x="1066680" y="0"/>
            <a:ext cx="6983640" cy="69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urface_024_0007_046_ginmld" descr=""/>
          <p:cNvPicPr/>
          <p:nvPr/>
        </p:nvPicPr>
        <p:blipFill>
          <a:blip r:embed="rId1"/>
          <a:stretch/>
        </p:blipFill>
        <p:spPr>
          <a:xfrm>
            <a:off x="0" y="609480"/>
            <a:ext cx="4468680" cy="4469040"/>
          </a:xfrm>
          <a:prstGeom prst="rect">
            <a:avLst/>
          </a:prstGeom>
          <a:ln w="0">
            <a:noFill/>
          </a:ln>
        </p:spPr>
      </p:pic>
      <p:pic>
        <p:nvPicPr>
          <p:cNvPr id="137" name="surface_025_0009_043_ginmld" descr=""/>
          <p:cNvPicPr/>
          <p:nvPr/>
        </p:nvPicPr>
        <p:blipFill>
          <a:blip r:embed="rId2"/>
          <a:stretch/>
        </p:blipFill>
        <p:spPr>
          <a:xfrm>
            <a:off x="4495680" y="6094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17200" y="5070600"/>
            <a:ext cx="30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MWF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34800" y="510552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-hourly for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084_1999_242_sec2_sal" descr=""/>
          <p:cNvPicPr/>
          <p:nvPr/>
        </p:nvPicPr>
        <p:blipFill>
          <a:blip r:embed="rId1"/>
          <a:stretch/>
        </p:blipFill>
        <p:spPr>
          <a:xfrm>
            <a:off x="1654200" y="609480"/>
            <a:ext cx="6194520" cy="6194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743200" y="76320"/>
            <a:ext cx="35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editerranean 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vel20_MN" descr=""/>
          <p:cNvPicPr/>
          <p:nvPr/>
        </p:nvPicPr>
        <p:blipFill>
          <a:blip r:embed="rId1"/>
          <a:stretch/>
        </p:blipFill>
        <p:spPr>
          <a:xfrm>
            <a:off x="1066680" y="-76320"/>
            <a:ext cx="7086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838080"/>
            <a:ext cx="8839440" cy="5143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276720"/>
            <a:ext cx="8762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nering/collaborating organizations are the University of Miami/RSMAS, the Naval Research Laboratory, NOAA/AOML, the Los Alamos National Laboratory, NERSC, LEGI, the Service Hydrographique et 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graphique de la Marine (SHOM), NAVOCEANO, Planning Systems Inc., Orbital Image Corp., and the U.S.Coast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252440"/>
            <a:ext cx="8686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-institutional effort on the development and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ata-assimilative hybrid isopycnal-sigma-pressure (generalized coordinate) ocean model (called  Hybrid Coordinate Ocean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HYC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34320" y="257040"/>
            <a:ext cx="1371600" cy="365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562800" y="6305400"/>
            <a:ext cx="2057400" cy="21924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3276720" y="6108840"/>
            <a:ext cx="609480" cy="609480"/>
            <a:chOff x="3276720" y="6108840"/>
            <a:chExt cx="609480" cy="609480"/>
          </a:xfrm>
        </p:grpSpPr>
        <p:sp>
          <p:nvSpPr>
            <p:cNvPr id="65" name=""/>
            <p:cNvSpPr/>
            <p:nvPr/>
          </p:nvSpPr>
          <p:spPr>
            <a:xfrm>
              <a:off x="3276720" y="6108840"/>
              <a:ext cx="609480" cy="609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276720" y="6108840"/>
              <a:ext cx="60948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984240" y="6191280"/>
            <a:ext cx="1219320" cy="428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74560" y="264960"/>
            <a:ext cx="760680" cy="384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525680" y="228600"/>
            <a:ext cx="455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2790720" y="257040"/>
            <a:ext cx="1905120" cy="40176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5562720" y="152280"/>
            <a:ext cx="533160" cy="533520"/>
            <a:chOff x="5562720" y="152280"/>
            <a:chExt cx="533160" cy="533520"/>
          </a:xfrm>
        </p:grpSpPr>
        <p:sp>
          <p:nvSpPr>
            <p:cNvPr id="72" name=""/>
            <p:cNvSpPr/>
            <p:nvPr/>
          </p:nvSpPr>
          <p:spPr>
            <a:xfrm>
              <a:off x="5562720" y="152280"/>
              <a:ext cx="533160" cy="53352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9"/>
            <a:stretch/>
          </p:blipFill>
          <p:spPr>
            <a:xfrm>
              <a:off x="5562720" y="157680"/>
              <a:ext cx="533160" cy="526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navologo" descr=""/>
          <p:cNvPicPr/>
          <p:nvPr/>
        </p:nvPicPr>
        <p:blipFill>
          <a:blip r:embed="rId10"/>
          <a:stretch/>
        </p:blipFill>
        <p:spPr>
          <a:xfrm>
            <a:off x="4911840" y="6037200"/>
            <a:ext cx="8287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76520" y="914400"/>
            <a:ext cx="5870520" cy="4051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71800" y="5105520"/>
            <a:ext cx="29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ckson and Brown, 1994 JG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0" t="18512" r="1886" b="7901"/>
          <a:stretch/>
        </p:blipFill>
        <p:spPr>
          <a:xfrm>
            <a:off x="4716360" y="2133720"/>
            <a:ext cx="3741840" cy="2701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rcRect l="1886" t="16631" r="1886" b="6015"/>
          <a:stretch/>
        </p:blipFill>
        <p:spPr>
          <a:xfrm>
            <a:off x="673200" y="2035080"/>
            <a:ext cx="3670200" cy="2841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098080" y="762120"/>
            <a:ext cx="49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Mean Velo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644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0 (27.8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5280" y="51814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1 (27.8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2767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6720" y="350532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2.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33526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11520" y="35053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66680" y="23464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95880" y="27432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76800" y="243828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1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2920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2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3920" y="32004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" y="1798560"/>
            <a:ext cx="4221000" cy="4062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87320" y="1752480"/>
            <a:ext cx="48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North Atlantic HYCOM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504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2 (27.9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23880" y="5638680"/>
            <a:ext cx="16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er 23 (28.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524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2004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32004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67280" y="3733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8862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4764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92400" y="4021200"/>
            <a:ext cx="35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7320" y="379260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92360" y="3048120"/>
            <a:ext cx="39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0.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1880" y="297180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38862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13.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20" y="28954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4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20" y="3413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9.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40" y="2133720"/>
            <a:ext cx="83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-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280" y="1836720"/>
            <a:ext cx="4254480" cy="40924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814840" y="1523880"/>
            <a:ext cx="35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1 (27.88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880" y="58183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4038840" cy="4038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0" y="2033640"/>
            <a:ext cx="4119480" cy="39654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590920" y="152388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12°North Atlantic HYC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2 (27.94) Mean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29160" y="5867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7640" y="586728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rcRect l="0" t="11554" r="0" b="14509"/>
          <a:stretch/>
        </p:blipFill>
        <p:spPr>
          <a:xfrm>
            <a:off x="1995480" y="1447920"/>
            <a:ext cx="5153040" cy="38098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4648320" y="182880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95480" y="852480"/>
            <a:ext cx="5153040" cy="5153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754360" y="270000"/>
            <a:ext cx="36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enmark Straits overfl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240" y="127080"/>
            <a:ext cx="8943840" cy="6616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8640" y="174600"/>
            <a:ext cx="822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computational goal is the establishment of a global eddy-resolving real-time ocean forecast system with sophisticated data assimilation techniques that can be efficiently executed on massively parallel compu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20720" y="218772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GODAE 2003-200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662200" y="3262320"/>
            <a:ext cx="3819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680" y="1062000"/>
            <a:ext cx="891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ybrid coordinate is one that is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sopycn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 open, stratified ocean, but smoothly reverts to a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terrain-follow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 in shallow coastal regions, and to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press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ordinates in the mixed layer and/or unstratified s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39408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82" name="xsectew" descr=""/>
          <p:cNvPicPr/>
          <p:nvPr/>
        </p:nvPicPr>
        <p:blipFill>
          <a:blip r:embed="rId2"/>
          <a:stretch/>
        </p:blipFill>
        <p:spPr>
          <a:xfrm>
            <a:off x="1219320" y="3165480"/>
            <a:ext cx="67816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1800" y="228600"/>
            <a:ext cx="84582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387440" y="3795840"/>
            <a:ext cx="4767120" cy="2423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91680" y="215892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92760" y="474984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390680" y="1204920"/>
            <a:ext cx="4781520" cy="2436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483000" y="419040"/>
            <a:ext cx="21812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7776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apability of assigning additional coordinate surfaces to the oceanic mixed layer allows for  sophisticated closure scheme, such as the K-Profile Parameterization (KPP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444840" y="343080"/>
            <a:ext cx="218124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YCO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pic>
        <p:nvPicPr>
          <p:cNvPr id="92" name="ekmantrdwwin" descr=""/>
          <p:cNvPicPr/>
          <p:nvPr/>
        </p:nvPicPr>
        <p:blipFill>
          <a:blip r:embed="rId2"/>
          <a:stretch/>
        </p:blipFill>
        <p:spPr>
          <a:xfrm>
            <a:off x="2462040" y="2438280"/>
            <a:ext cx="40910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990720"/>
            <a:ext cx="777240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WEB PAGE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http://hycom.rsmas.miami.ed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/>
          <p:nvPr/>
        </p:nvSpPr>
        <p:spPr>
          <a:xfrm>
            <a:off x="598680" y="4844880"/>
            <a:ext cx="795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ric P. Chassignet (echassignet@rsmas.miami.ed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rizontal grid: 1/1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 (1678 x 1609 grid points, 6.5 k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pacing on aver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S to 70°N (including the Mediterranean S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vertical layers (σ-the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hymetry: Quality controlled ETOPO 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face forcing ECMW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6 years: 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9-2001:       6-hour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wind stress, wind speed, heat flux (using bulk formula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P + relaxation to climatological SS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 run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ffer z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° north and south with relaxation to monthly climat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and S (Levit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7480" y="18252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ODEL CONFIGURATION: MI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22:58:29Z</dcterms:created>
  <dc:creator>Eric Chassignet</dc:creator>
  <dc:description/>
  <dc:language>en-US</dc:language>
  <cp:lastModifiedBy>Eric Chassignet</cp:lastModifiedBy>
  <dcterms:modified xsi:type="dcterms:W3CDTF">2002-04-25T07:57:00Z</dcterms:modified>
  <cp:revision>17</cp:revision>
  <dc:subject/>
  <dc:title>LOM 2002</dc:title>
</cp:coreProperties>
</file>