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773-B119-4E4B-B92F-991C5DA3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655-983D-4C5F-822F-8C8D3A53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CED-4496-4ED2-8B07-6AD82F21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79A-AE1E-401D-BE07-09F9C968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120-E3C6-4BE0-B509-F96CFE6A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98A-C2BF-4E9D-BB15-FBC5183F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AA7-ED1F-4257-9A6E-AD104B73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E76-C1AC-4D46-85C2-DBDE7EA7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2BC-9887-447D-AE4A-C9804B4B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68C-0EA7-4278-A395-BD695BA6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518-F50F-4AD9-9C2C-45322E6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392-16F7-4237-8544-1FB64927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A171-2939-4130-A6EF-CABE551E4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EFFECTS OF ENTRAINMENT CLOSURE ON THE OCEANIC MIXED LAYER RESPONSE DURING A TROPICAL CYCLONE PASSAGE: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A NUMERICAL INVEST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S. Daniel Jacob, Lynn K. Shay and George R. Halli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eteorology and Physical Ocean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Rosenstiel School of Marine and Atmospheric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University of Miami, Miami, FL 3314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313000" cy="2224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5791320"/>
            <a:ext cx="8610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Drs. Peter Black (NOAA/HRD), Rainer Bleck (LAN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Alan Wallcraft (NRL Stenn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USWRP - NSF Sponsored project: ATM-97-14855 and ATM-01-082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OV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971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RT</a:t>
            </a: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90840" y="585720"/>
            <a:ext cx="5962320" cy="568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219320"/>
            <a:ext cx="1752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Blue - 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Green - 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Red - 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yan - D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ENTRAINMENT AND SURFACE FLUXES POIN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29280" cy="6124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29528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Blue -Cas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Green -Cas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Red -Case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ODEL-DATA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7257960" cy="655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609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960" y="2286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ST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640" y="388620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WAK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9640" y="541008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WAK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HYbrid Coordinate Ocean Model (HYCOM)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lbertus Medium (W1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ybrid Coordinate System – Physical Ada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gher order mix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ain: Gulf of Me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lution: 0.07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4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osed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iescent Conditions from average prestorm AXBT (Case 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1066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Bleck 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com Q Mov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77120" cy="6324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1447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2000" y="472428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MY2.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06840" y="152388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K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35560" y="48006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W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8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933960" cy="662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295280"/>
            <a:ext cx="1676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Blue: 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Green: K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Red: MY2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Cyan: PW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oth MICOM and HYCOM simulations show a strong oceanic ML budget dependence on the entrainment closure scheme in the directly forced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lications for storm inten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MICOM, MLTs simulated using Pollard, Rhines and Thompson (1973) entrainment scheme compare better with observations during and after the storm pass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ceanic background conditions are essential for realistic simulations in coupled models as indicated by better model-data comparis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listic initialization of HYCOM consistent with observ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ison of realistic HYCOM results with data and detailed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stomizing the higher order schemes for wind induced mixing.  Critical Richardso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estigation of momentum and heat transfer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ENTR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Based on Observational Analysis (Jacob et al., JPO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trainment is the dominant mechanism in the mixed lay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xed layer heat and mass budgets strongly depend upon the entrainment schem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umerical Mode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asured and simulated quantities based on different hypothesis are used to compute entrainment mix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COM: Gaspar (1988) scheme that use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1800" spc="-1" strike="noStrike" baseline="-44000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800" spc="-1" strike="noStrike" baseline="-44000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prescribe entrainment rate. Observations suggest the presence of strong near-inertial shears at the ML 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lbertus Medium (W1)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Verdana"/>
              </a:rPr>
              <a:t>Entrainment Mix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Layered Miami Isopycnic Coordinate Ocea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aspar (19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raus and Turner (196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lard, Rhines and Thompson (1973), Price (198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ardorff (19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ybrid Coordinate Ocea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aspar (19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 Profile Parameterization (Large et al. 19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llor and Yamada (1974) Level 2.5 K-</a:t>
            </a:r>
            <a:r>
              <a:rPr b="0" lang="el-GR" sz="1600" spc="-1" strike="noStrike">
                <a:solidFill>
                  <a:srgbClr val="ffffff"/>
                </a:solidFill>
                <a:latin typeface="Verdana"/>
              </a:rPr>
              <a:t>ε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sc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ice et al. (1986) sche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mpare model results to Gilbert (1988)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Miami Isopycnic Coordinate Ocean Model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lbertus Medium (W1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icit Mixed Layer 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tural Discontinuity for different water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ain: Gulf of Me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lution: 0.07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5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osed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iescent Conditions from average prestorm AXBT (Case 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listic Conditions from Yearday 200 data (Cas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281952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10666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Bleck and Smith 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Verdana"/>
              </a:rPr>
              <a:t>WIND FIELD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0541" t="23709" r="12414" b="26384"/>
          <a:stretch/>
        </p:blipFill>
        <p:spPr>
          <a:xfrm>
            <a:off x="1523880" y="920880"/>
            <a:ext cx="6161040" cy="593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OV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00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77320" y="15238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4876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D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04800" y="538200"/>
            <a:ext cx="6134400" cy="578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Verdana"/>
              </a:rPr>
              <a:t>QUANTITATIVE COMPARISON: LOCATIONS AND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979560"/>
            <a:ext cx="5530680" cy="587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93000" cy="6854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219320"/>
            <a:ext cx="1752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Blue - 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Green - 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Red - 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yan - D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Verdana"/>
              </a:rPr>
              <a:t>TEMPERATURE-SALINITY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84880" cy="572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1752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1828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E GC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4800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4T01:15:35Z</dcterms:created>
  <dc:creator>Daniel Jacob</dc:creator>
  <dc:description/>
  <dc:language>en-US</dc:language>
  <cp:lastModifiedBy>S. Daniel Jacob</cp:lastModifiedBy>
  <dcterms:modified xsi:type="dcterms:W3CDTF">2002-04-27T18:29:21Z</dcterms:modified>
  <cp:revision>119</cp:revision>
  <dc:subject/>
  <dc:title>ON THE ROLE OF OCEANIC MESOSCALE FEATURES ON THE TROPICAL CYCLONE INDUCED RESPONSE</dc:title>
</cp:coreProperties>
</file>