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1FC-B8DA-43F2-95A7-4318249E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1F6-0952-4D9A-A935-CDA752E6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1F6-541F-4A24-AE6D-2ECEA739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951-0633-4246-8078-55CC4F45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9DB2-695E-423E-B8FA-1A091CD7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D1E3-17A8-4FC4-BD1D-9F50E254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9930-2660-4025-B6A7-DDD82627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BFF9-8297-47DF-8762-9C14D659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0813-C7BF-4F2A-8D69-54E47349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516D-D945-4B0C-8B12-03FF1A99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7934-D8EA-488A-9FE2-32F5B13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8DA-FA2E-41BA-BE34-3899AB4A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A7CD-EBF6-46E1-B5EE-E83F0577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2234-71A8-4011-9B22-6D27F9A1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B9C9-9B5B-4257-95CB-D38AC31A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F326-6561-45A7-922D-3EBC51DF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4578-95FF-4A8C-A198-DE7B075D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0BA-E77E-44F6-B26A-638C83CD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4B9-4105-41E4-9B84-678B2B5F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AE8-1C3C-4FD5-A4DF-C41A16A7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9B5-2ED6-4C60-B6ED-81876377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F13-EDFF-457B-AB44-E16F0E36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2C4-DB2F-47E6-A94D-50D29045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BE2-2DFF-41B9-ACEC-2B60163E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A9F-8EFE-4D62-A0FC-C11BEDD32B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E958-CB5A-48A2-A91D-6680A83E81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ie_ssh_annual.gif" TargetMode="External"/><Relationship Id="rId2" Type="http://schemas.openxmlformats.org/officeDocument/2006/relationships/hyperlink" Target="file:///movie_ssh_monthly.gif" TargetMode="External"/><Relationship Id="rId3" Type="http://schemas.openxmlformats.org/officeDocument/2006/relationships/hyperlink" Target="file:///movie_mth_annual.gif" TargetMode="External"/><Relationship Id="rId4" Type="http://schemas.openxmlformats.org/officeDocument/2006/relationships/hyperlink" Target="file:///movie_mth_monthly.gif" TargetMode="External"/><Relationship Id="rId5" Type="http://schemas.openxmlformats.org/officeDocument/2006/relationships/hyperlink" Target="file:///movie_shf_annual.gif" TargetMode="External"/><Relationship Id="rId6" Type="http://schemas.openxmlformats.org/officeDocument/2006/relationships/hyperlink" Target="file:///movie_shf_monthly.gif" TargetMode="External"/><Relationship Id="rId7" Type="http://schemas.openxmlformats.org/officeDocument/2006/relationships/hyperlink" Target="file:///movie_ico_annual.gif" TargetMode="External"/><Relationship Id="rId8" Type="http://schemas.openxmlformats.org/officeDocument/2006/relationships/hyperlink" Target="file:///movie_ico_monthly.gif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movie_tem_z0_ann.gif" TargetMode="External"/><Relationship Id="rId2" Type="http://schemas.openxmlformats.org/officeDocument/2006/relationships/hyperlink" Target="file:///movie_tem_z0_monthly.gif" TargetMode="External"/><Relationship Id="rId3" Type="http://schemas.openxmlformats.org/officeDocument/2006/relationships/hyperlink" Target="file:///movie_sal_z0_ann.gif" TargetMode="External"/><Relationship Id="rId4" Type="http://schemas.openxmlformats.org/officeDocument/2006/relationships/hyperlink" Target="file:///movie_sal_z0_monthly.gif" TargetMode="External"/><Relationship Id="rId5" Type="http://schemas.openxmlformats.org/officeDocument/2006/relationships/hyperlink" Target="file:///movie_rho_z0_ann.gif" TargetMode="External"/><Relationship Id="rId6" Type="http://schemas.openxmlformats.org/officeDocument/2006/relationships/hyperlink" Target="file:///movie_rho_z0_monthly.gif" TargetMode="External"/><Relationship Id="rId7" Type="http://schemas.openxmlformats.org/officeDocument/2006/relationships/hyperlink" Target="file:///movie_tem_zm_ann.gif" TargetMode="External"/><Relationship Id="rId8" Type="http://schemas.openxmlformats.org/officeDocument/2006/relationships/hyperlink" Target="file:///movie_tem_zm_monthly.gif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9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YCOM GLBx2.00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Experi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39621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ve Bi and Alan Wallcra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MAS/MPO, University of Mia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RL Stenn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gust, 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orizontal and Vertical Struct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al Desig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 Results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es movie show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Surface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Water Mass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orizontal and Vertical Distrib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Horizontal Curr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odel Configuration: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orizontal Gr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3504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rcator mesh of resolution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ºx2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s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) is used south of 6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. At this latitude, the Mercator projection smoothly  transitions to a bipolar projection with poles over Canada and Siberia but without grid singularity over the ocean are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52578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odel Configuration: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ertical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YCOM global version (GLBx2.00) represents the ocean by 26 layers vertically, using </a:t>
            </a:r>
            <a:r>
              <a:rPr b="1" lang="el-GR" sz="1600" spc="-1" strike="noStrike">
                <a:solidFill>
                  <a:srgbClr val="000000"/>
                </a:solidFill>
                <a:latin typeface="Tahoma"/>
                <a:ea typeface="Arial"/>
              </a:rPr>
              <a:t>σ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 (potential density referenced to the sea surface) as vertical coordinate in the ocean interior. However, coordinate surfaces level off to become constant-depth surface wherever the isopycnals they follow outcrop at the sea surfac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s figure shows a snap shot of the layers along the 20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ºW meridia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05320" y="1839960"/>
            <a:ext cx="54496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orc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ADS monthly atmospheric climatology, including wind stresses, wind speed, solar radiation, net radiation, moisture, etc.. No fresh water flux (E-P) is applied. In stead, the sea surface salinity is relaxed to Levitus climatolo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odel ocean is initialized with the Levitus climatology, i.e., monthly salinity and tempera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ergy loa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ixed layer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P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u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38 ye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esult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face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 Surface He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ed layer thick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face heat fl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 ice concen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annual me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esul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er mass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face distribu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T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S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D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structure (zonal avera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erature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annual me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seasonal cyc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inity         (annual mean and seasonal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ification  (annual mean and seasonal cy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esul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rizontal curr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ed Layer Velo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mean  and  Seasonal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rzontal currents at 1000m dep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mean  and  Seasonal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7:06:40Z</dcterms:created>
  <dc:creator>david bi</dc:creator>
  <dc:description/>
  <dc:language>en-US</dc:language>
  <cp:lastModifiedBy>david bi</cp:lastModifiedBy>
  <dcterms:modified xsi:type="dcterms:W3CDTF">2002-08-13T21:23:38Z</dcterms:modified>
  <cp:revision>17</cp:revision>
  <dc:subject/>
  <dc:title>Slide 1</dc:title>
</cp:coreProperties>
</file>