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15.png" ContentType="image/png"/>
  <Override PartName="/ppt/media/image36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3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9.png" ContentType="image/png"/>
  <Override PartName="/ppt/media/image39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25.png" ContentType="image/png"/>
  <Override PartName="/ppt/media/image42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BC4-B1CC-4D88-8CFD-69E6ED54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1FE-F5C4-4FAC-95BE-A662231D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913-7D87-4AB6-A6E1-82FA6AE4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70F-E845-48CC-A1CE-A3A045FD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2BA-D260-479C-8891-2B8023BC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548-CE27-43FC-8ADA-BA28C3F9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60A-0A00-4707-88F4-BB41F9E1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B97-882D-4447-8BF6-4A1BA410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3E5-F645-4666-9E2A-9DEB1A2B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DF7-56AF-4A79-833C-E86CC39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3B9-2066-42E5-8AD5-6F1E425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18B-7FA7-466B-AC6A-D42FE52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4F75-B0BC-4D29-9F8C-1684E6234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7160" y="36360"/>
            <a:ext cx="2595600" cy="209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371600"/>
            <a:ext cx="8839440" cy="4267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5614920"/>
            <a:ext cx="356220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33960" y="5816520"/>
            <a:ext cx="3352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18680" y="2527200"/>
            <a:ext cx="8318880" cy="1739880"/>
            <a:chOff x="418680" y="2527200"/>
            <a:chExt cx="8318880" cy="1739880"/>
          </a:xfrm>
        </p:grpSpPr>
        <p:sp>
          <p:nvSpPr>
            <p:cNvPr id="46" name=""/>
            <p:cNvSpPr/>
            <p:nvPr/>
          </p:nvSpPr>
          <p:spPr>
            <a:xfrm>
              <a:off x="4473360" y="253332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8680" y="2527200"/>
              <a:ext cx="8318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Mesoscale eddy activity in high resol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North Atlantic MICOM and HYCOM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numerical simula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420360" y="464832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GS 2002,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icom2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6142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6960" y="574560"/>
            <a:ext cx="7707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25,000 isobaric float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arraffo et al., 2001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 Brazil Current ring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arraffo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lf Stream separ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Chassignet and Garraffo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 Water form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iva and Chassignet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terranean outlow/meddi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padakis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turning circul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Chassignet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lf of Mexico Loop Curren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Romanou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ibbean inflows/out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H variabilit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iva et al.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rador Sea Circul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heetten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equatorial wav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Foltz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lorida_straits" descr=""/>
          <p:cNvPicPr/>
          <p:nvPr/>
        </p:nvPicPr>
        <p:blipFill>
          <a:blip r:embed="rId1"/>
          <a:srcRect l="6534" t="20205" r="6534" b="30303"/>
          <a:stretch/>
        </p:blipFill>
        <p:spPr>
          <a:xfrm>
            <a:off x="152280" y="228600"/>
            <a:ext cx="8839440" cy="6513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5200" y="61722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nthly climatological 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meta.florida.run3" descr=""/>
          <p:cNvPicPr/>
          <p:nvPr/>
        </p:nvPicPr>
        <p:blipFill>
          <a:blip r:embed="rId1"/>
          <a:stretch/>
        </p:blipFill>
        <p:spPr>
          <a:xfrm>
            <a:off x="-838080" y="-2971800"/>
            <a:ext cx="10950480" cy="14169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43560" y="64771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6-hourly 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24852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7301"/>
                </a:moveTo>
                <a:lnTo>
                  <a:pt x="10923" y="7301"/>
                </a:lnTo>
                <a:lnTo>
                  <a:pt x="11306" y="7667"/>
                </a:lnTo>
                <a:lnTo>
                  <a:pt x="20515" y="7667"/>
                </a:lnTo>
                <a:lnTo>
                  <a:pt x="21072" y="8224"/>
                </a:lnTo>
                <a:lnTo>
                  <a:pt x="21072" y="8772"/>
                </a:lnTo>
                <a:lnTo>
                  <a:pt x="22917" y="8772"/>
                </a:lnTo>
                <a:lnTo>
                  <a:pt x="23283" y="8224"/>
                </a:lnTo>
                <a:lnTo>
                  <a:pt x="24022" y="8224"/>
                </a:lnTo>
                <a:lnTo>
                  <a:pt x="24022" y="13376"/>
                </a:lnTo>
                <a:lnTo>
                  <a:pt x="23283" y="13376"/>
                </a:lnTo>
                <a:lnTo>
                  <a:pt x="22917" y="12828"/>
                </a:lnTo>
                <a:lnTo>
                  <a:pt x="21072" y="12828"/>
                </a:lnTo>
                <a:lnTo>
                  <a:pt x="21072" y="14107"/>
                </a:lnTo>
                <a:lnTo>
                  <a:pt x="11489" y="14107"/>
                </a:lnTo>
                <a:lnTo>
                  <a:pt x="11489" y="9877"/>
                </a:lnTo>
                <a:lnTo>
                  <a:pt x="11306" y="9877"/>
                </a:lnTo>
                <a:lnTo>
                  <a:pt x="10923" y="10243"/>
                </a:lnTo>
                <a:lnTo>
                  <a:pt x="10009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st.yr05.eta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267080" cy="4091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9240" y="5486400"/>
            <a:ext cx="31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topex_new.atl" descr=""/>
          <p:cNvPicPr/>
          <p:nvPr/>
        </p:nvPicPr>
        <p:blipFill>
          <a:blip r:embed="rId2"/>
          <a:srcRect l="3267" t="0" r="0" b="0"/>
          <a:stretch/>
        </p:blipFill>
        <p:spPr>
          <a:xfrm>
            <a:off x="4572000" y="30492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63680" y="55627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OPEX / ER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opex_new.atl" descr=""/>
          <p:cNvPicPr/>
          <p:nvPr/>
        </p:nvPicPr>
        <p:blipFill>
          <a:blip r:embed="rId1"/>
          <a:srcRect l="3267" t="0" r="0" b="0"/>
          <a:stretch/>
        </p:blipFill>
        <p:spPr>
          <a:xfrm>
            <a:off x="4572000" y="22860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10" name="st.yr1979.eta" descr=""/>
          <p:cNvPicPr/>
          <p:nvPr/>
        </p:nvPicPr>
        <p:blipFill>
          <a:blip r:embed="rId2"/>
          <a:stretch/>
        </p:blipFill>
        <p:spPr>
          <a:xfrm>
            <a:off x="254160" y="838080"/>
            <a:ext cx="4241520" cy="4067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720" y="5486400"/>
            <a:ext cx="23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6-hour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3680" y="56386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OPEX / ER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371520"/>
            <a:ext cx="83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ainment parameterization using Hallberg (200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icit solver using Turner’s  (1986) entrai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s (based on Richardson numb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82200" y="3089160"/>
            <a:ext cx="35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terranean out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mark Straits 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3886200"/>
            <a:ext cx="1043280" cy="58572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63" h="21600">
                <a:moveTo>
                  <a:pt x="0" y="0"/>
                </a:moveTo>
                <a:lnTo>
                  <a:pt x="38463" y="0"/>
                </a:lnTo>
                <a:lnTo>
                  <a:pt x="38463" y="21600"/>
                </a:lnTo>
                <a:lnTo>
                  <a:pt x="0" y="21600"/>
                </a:lnTo>
                <a:close/>
              </a:path>
              <a:path fill="lightenLess" w="38463" h="21600">
                <a:moveTo>
                  <a:pt x="0" y="0"/>
                </a:moveTo>
                <a:lnTo>
                  <a:pt x="38463" y="0"/>
                </a:lnTo>
                <a:lnTo>
                  <a:pt x="37063" y="1400"/>
                </a:lnTo>
                <a:lnTo>
                  <a:pt x="1400" y="1400"/>
                </a:lnTo>
                <a:close/>
              </a:path>
              <a:path fill="darken" w="38463" h="21600">
                <a:moveTo>
                  <a:pt x="38463" y="0"/>
                </a:moveTo>
                <a:lnTo>
                  <a:pt x="38463" y="21600"/>
                </a:lnTo>
                <a:lnTo>
                  <a:pt x="37063" y="20200"/>
                </a:lnTo>
                <a:lnTo>
                  <a:pt x="37063" y="1400"/>
                </a:lnTo>
                <a:close/>
              </a:path>
              <a:path fill="darkenLess" w="38463" h="21600">
                <a:moveTo>
                  <a:pt x="3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63" y="20200"/>
                </a:lnTo>
                <a:close/>
              </a:path>
              <a:path fill="lighten" w="3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63" h="21600">
                <a:moveTo>
                  <a:pt x="12225" y="7301"/>
                </a:moveTo>
                <a:lnTo>
                  <a:pt x="13139" y="7301"/>
                </a:lnTo>
                <a:lnTo>
                  <a:pt x="13522" y="7667"/>
                </a:lnTo>
                <a:lnTo>
                  <a:pt x="22731" y="7667"/>
                </a:lnTo>
                <a:lnTo>
                  <a:pt x="23288" y="8224"/>
                </a:lnTo>
                <a:lnTo>
                  <a:pt x="23288" y="8772"/>
                </a:lnTo>
                <a:lnTo>
                  <a:pt x="25133" y="8772"/>
                </a:lnTo>
                <a:lnTo>
                  <a:pt x="25498" y="8224"/>
                </a:lnTo>
                <a:lnTo>
                  <a:pt x="26238" y="8224"/>
                </a:lnTo>
                <a:lnTo>
                  <a:pt x="26238" y="13376"/>
                </a:lnTo>
                <a:lnTo>
                  <a:pt x="25498" y="13376"/>
                </a:lnTo>
                <a:lnTo>
                  <a:pt x="25133" y="12828"/>
                </a:lnTo>
                <a:lnTo>
                  <a:pt x="23288" y="12828"/>
                </a:lnTo>
                <a:lnTo>
                  <a:pt x="23288" y="14107"/>
                </a:lnTo>
                <a:lnTo>
                  <a:pt x="13705" y="14107"/>
                </a:lnTo>
                <a:lnTo>
                  <a:pt x="13705" y="9877"/>
                </a:lnTo>
                <a:lnTo>
                  <a:pt x="13522" y="9877"/>
                </a:lnTo>
                <a:lnTo>
                  <a:pt x="13139" y="10243"/>
                </a:lnTo>
                <a:lnTo>
                  <a:pt x="12225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hixy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xy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07160" y="36360"/>
            <a:ext cx="2595600" cy="209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1371600"/>
            <a:ext cx="8839440" cy="4267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" y="5614920"/>
            <a:ext cx="3562200" cy="10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133960" y="5816520"/>
            <a:ext cx="3352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4473720" y="2527200"/>
            <a:ext cx="196200" cy="647640"/>
            <a:chOff x="4473720" y="2527200"/>
            <a:chExt cx="196200" cy="647640"/>
          </a:xfrm>
        </p:grpSpPr>
        <p:sp>
          <p:nvSpPr>
            <p:cNvPr id="55" name=""/>
            <p:cNvSpPr/>
            <p:nvPr/>
          </p:nvSpPr>
          <p:spPr>
            <a:xfrm>
              <a:off x="4473720" y="2533320"/>
              <a:ext cx="18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85960" y="252720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48360" y="285120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ric P. Chassignet, Patrick J. Hogan, Zulema D. Garraff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arley E. Hurlburt, Raffaele Ferrar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nd Alan J. Wall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icom2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6142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pdf" descr=""/>
          <p:cNvPicPr/>
          <p:nvPr/>
        </p:nvPicPr>
        <p:blipFill>
          <a:blip r:embed="rId1"/>
          <a:srcRect l="0" t="26147" r="68184" b="26147"/>
          <a:stretch/>
        </p:blipFill>
        <p:spPr>
          <a:xfrm>
            <a:off x="76320" y="-304920"/>
            <a:ext cx="4278240" cy="495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40080" y="495288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rth-South PDF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760" y="423216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cific 25N-35N (Obs.)                  MICOM Atlantic 15N-4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2120" y="5756400"/>
            <a:ext cx="870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(PDF with MICOM from 25N to 35N is more skewed to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positive density ratio, but is otherwise similar to the above fig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ighres" descr=""/>
          <p:cNvPicPr/>
          <p:nvPr/>
        </p:nvPicPr>
        <p:blipFill>
          <a:blip r:embed="rId2"/>
          <a:srcRect l="0" t="51714" r="46952" b="0"/>
          <a:stretch/>
        </p:blipFill>
        <p:spPr>
          <a:xfrm>
            <a:off x="5181480" y="152280"/>
            <a:ext cx="338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grid: 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(1678 x 1609 grid points, 6.5 k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acing on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 to 70°N (including the Mediterranean S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vertical coordinate (σ-theta re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hymetry: Quality controlled ETOPO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forcing ECM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2 years: 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from year 5 of MI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ind stress, wind speed, heat flux (using bulk formul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P + relaxation to climatological S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 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 z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° north and south with relaxation to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nd S (MO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86760" y="182520"/>
            <a:ext cx="72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L CONFIGURATION: HY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sh_MN" descr=""/>
          <p:cNvPicPr/>
          <p:nvPr/>
        </p:nvPicPr>
        <p:blipFill>
          <a:blip r:embed="rId1"/>
          <a:stretch/>
        </p:blipFill>
        <p:spPr>
          <a:xfrm>
            <a:off x="1066680" y="-76320"/>
            <a:ext cx="701064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sh_8_139" descr=""/>
          <p:cNvPicPr/>
          <p:nvPr/>
        </p:nvPicPr>
        <p:blipFill>
          <a:blip r:embed="rId1"/>
          <a:stretch/>
        </p:blipFill>
        <p:spPr>
          <a:xfrm>
            <a:off x="1219320" y="-61920"/>
            <a:ext cx="699588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sh_gs_8_211" descr=""/>
          <p:cNvPicPr/>
          <p:nvPr/>
        </p:nvPicPr>
        <p:blipFill>
          <a:blip r:embed="rId1"/>
          <a:stretch/>
        </p:blipFill>
        <p:spPr>
          <a:xfrm>
            <a:off x="380880" y="-1143000"/>
            <a:ext cx="8458200" cy="8458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8487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t.yr05.eta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267080" cy="409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44840" y="5486400"/>
            <a:ext cx="32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ICOM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77080" y="5486400"/>
            <a:ext cx="32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COM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024-rms-ssh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mld_MN" descr=""/>
          <p:cNvPicPr/>
          <p:nvPr/>
        </p:nvPicPr>
        <p:blipFill>
          <a:blip r:embed="rId1"/>
          <a:stretch/>
        </p:blipFill>
        <p:spPr>
          <a:xfrm>
            <a:off x="1066680" y="0"/>
            <a:ext cx="698364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urface_024_0007_046_ginmld" descr=""/>
          <p:cNvPicPr/>
          <p:nvPr/>
        </p:nvPicPr>
        <p:blipFill>
          <a:blip r:embed="rId1"/>
          <a:stretch/>
        </p:blipFill>
        <p:spPr>
          <a:xfrm>
            <a:off x="0" y="609480"/>
            <a:ext cx="4468680" cy="4469040"/>
          </a:xfrm>
          <a:prstGeom prst="rect">
            <a:avLst/>
          </a:prstGeom>
          <a:ln w="0">
            <a:noFill/>
          </a:ln>
        </p:spPr>
      </p:pic>
      <p:pic>
        <p:nvPicPr>
          <p:cNvPr id="137" name="surface_025_0009_043_ginmld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17200" y="5070600"/>
            <a:ext cx="30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34800" y="51055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hourly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084_1999_242_sec2_sal" descr=""/>
          <p:cNvPicPr/>
          <p:nvPr/>
        </p:nvPicPr>
        <p:blipFill>
          <a:blip r:embed="rId1"/>
          <a:stretch/>
        </p:blipFill>
        <p:spPr>
          <a:xfrm>
            <a:off x="1654200" y="609480"/>
            <a:ext cx="6194520" cy="6194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743200" y="7632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diterranean 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vel20_MN" descr=""/>
          <p:cNvPicPr/>
          <p:nvPr/>
        </p:nvPicPr>
        <p:blipFill>
          <a:blip r:embed="rId1"/>
          <a:stretch/>
        </p:blipFill>
        <p:spPr>
          <a:xfrm>
            <a:off x="1066680" y="-7632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838080"/>
            <a:ext cx="883944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27672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nering/collaborating organizations are the University of Miami/RSMAS, the Naval Research Laboratory, NOAA/AOML, the Los Alamos National Laboratory, NERSC, LEGI, the Service Hydrographique et 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graphique de la Marine (SHOM), NAVOCEANO, Planning Systems Inc., Orbital Image Corp., and the U.S.Coast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252440"/>
            <a:ext cx="86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-institutional effort on the development and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-assimilative hybrid isopycnal-sigma-pressure (generalized coordinate) ocean model (called  Hybrid Coordinate Ocea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HYC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934320" y="257040"/>
            <a:ext cx="1371600" cy="365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562800" y="6305400"/>
            <a:ext cx="2057400" cy="2192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276720" y="6108840"/>
            <a:ext cx="609480" cy="609480"/>
            <a:chOff x="3276720" y="6108840"/>
            <a:chExt cx="609480" cy="609480"/>
          </a:xfrm>
        </p:grpSpPr>
        <p:sp>
          <p:nvSpPr>
            <p:cNvPr id="65" name=""/>
            <p:cNvSpPr/>
            <p:nvPr/>
          </p:nvSpPr>
          <p:spPr>
            <a:xfrm>
              <a:off x="3276720" y="6108840"/>
              <a:ext cx="60948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276720" y="610884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984240" y="6191280"/>
            <a:ext cx="1219320" cy="428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74560" y="264960"/>
            <a:ext cx="760680" cy="38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525680" y="228600"/>
            <a:ext cx="455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2790720" y="257040"/>
            <a:ext cx="1905120" cy="40176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5562720" y="152280"/>
            <a:ext cx="533160" cy="533520"/>
            <a:chOff x="5562720" y="152280"/>
            <a:chExt cx="533160" cy="533520"/>
          </a:xfrm>
        </p:grpSpPr>
        <p:sp>
          <p:nvSpPr>
            <p:cNvPr id="72" name=""/>
            <p:cNvSpPr/>
            <p:nvPr/>
          </p:nvSpPr>
          <p:spPr>
            <a:xfrm>
              <a:off x="5562720" y="152280"/>
              <a:ext cx="533160" cy="5335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5562720" y="157680"/>
              <a:ext cx="533160" cy="52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navologo" descr=""/>
          <p:cNvPicPr/>
          <p:nvPr/>
        </p:nvPicPr>
        <p:blipFill>
          <a:blip r:embed="rId10"/>
          <a:stretch/>
        </p:blipFill>
        <p:spPr>
          <a:xfrm>
            <a:off x="4911840" y="6037200"/>
            <a:ext cx="8287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870520" cy="4051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71800" y="5105520"/>
            <a:ext cx="29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kson and Brown, 1994 J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18512" r="1886" b="7901"/>
          <a:stretch/>
        </p:blipFill>
        <p:spPr>
          <a:xfrm>
            <a:off x="4716360" y="2133720"/>
            <a:ext cx="3741840" cy="270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1886" t="16631" r="1886" b="6015"/>
          <a:stretch/>
        </p:blipFill>
        <p:spPr>
          <a:xfrm>
            <a:off x="673200" y="2035080"/>
            <a:ext cx="3670200" cy="2841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98080" y="762120"/>
            <a:ext cx="49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°North Atlantic HYCOM Mean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6440" y="51814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0 (27.8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5280" y="51814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1 (27.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2767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6720" y="35053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2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3352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1520" y="35053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66680" y="23464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76800" y="24382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2004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3200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29200" y="32004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3920" y="32004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798560"/>
            <a:ext cx="4221000" cy="406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87320" y="1752480"/>
            <a:ext cx="48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North Atlantic HYCOM Mea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5040" y="56386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2 (27.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23880" y="56386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3 (28.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37339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200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2004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37339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40212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2400" y="40212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6560" y="37926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7320" y="37926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360" y="30481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1880" y="297180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38862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3.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20" y="2895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4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0" y="3413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.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213372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-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1836720"/>
            <a:ext cx="4254480" cy="4092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814840" y="1523880"/>
            <a:ext cx="35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°North Atlantic HY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21 (27.88) Mea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9160" y="5867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880" y="58183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4038840" cy="403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2033640"/>
            <a:ext cx="4119480" cy="3965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90920" y="1523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°North Atlantic HY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22 (27.94) Mea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9160" y="5867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640" y="58672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11554" r="0" b="14509"/>
          <a:stretch/>
        </p:blipFill>
        <p:spPr>
          <a:xfrm>
            <a:off x="1995480" y="1447920"/>
            <a:ext cx="515304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648320" y="182880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95480" y="852480"/>
            <a:ext cx="5153040" cy="5153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54360" y="27000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nmark Straits overf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240" y="127080"/>
            <a:ext cx="8943840" cy="6616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8640" y="174600"/>
            <a:ext cx="822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computational goal is the establishment of a global eddy-resolving real-time ocean forecast system with sophisticated data assimilation techniques that can be efficiently executed on massively parallel compu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20720" y="21877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GODAE 2003-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62200" y="3262320"/>
            <a:ext cx="3819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680" y="1062000"/>
            <a:ext cx="891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brid coordinate is one that i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opyc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open, stratified ocean, but smoothly reverts to 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errain-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 in shallow coastal regions, an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s in the mixed layer and/or unstratified 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394080" y="343080"/>
            <a:ext cx="21812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82" name="xsectew" descr=""/>
          <p:cNvPicPr/>
          <p:nvPr/>
        </p:nvPicPr>
        <p:blipFill>
          <a:blip r:embed="rId2"/>
          <a:stretch/>
        </p:blipFill>
        <p:spPr>
          <a:xfrm>
            <a:off x="1219320" y="3165480"/>
            <a:ext cx="67816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1800" y="228600"/>
            <a:ext cx="845820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87440" y="3795840"/>
            <a:ext cx="4767120" cy="24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91680" y="21589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92760" y="474984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90680" y="1204920"/>
            <a:ext cx="4781520" cy="2436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483000" y="41904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777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bility of assigning additional coordinate surfaces to the oceanic mixed layer allows for  sophisticated closure scheme, such as the K-Profile Parameterization (KP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44840" y="343080"/>
            <a:ext cx="21812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92" name="ekmantrdwwin" descr=""/>
          <p:cNvPicPr/>
          <p:nvPr/>
        </p:nvPicPr>
        <p:blipFill>
          <a:blip r:embed="rId2"/>
          <a:stretch/>
        </p:blipFill>
        <p:spPr>
          <a:xfrm>
            <a:off x="2462040" y="2438280"/>
            <a:ext cx="4091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990720"/>
            <a:ext cx="777240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WEB PAG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ttp://hycom.rsmas.miami.ed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598680" y="4844880"/>
            <a:ext cx="795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ic P. Chassignet (echassignet@rsmas.miami.e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grid: 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(1678 x 1609 grid points, 6.5 k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acing on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 to 70°N (including the Mediterranean S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vertical layers (σ-the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hymetry: Quality controlled ETOPO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forcing ECM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6 years: 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9-2001:       6-hour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ind stress, wind speed, heat flux (using bulk formul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P + relaxation to climatological S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 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 z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° north and south with relaxation to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nd S (Levi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18252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L CONFIGURATION: MI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22:58:29Z</dcterms:created>
  <dc:creator>Eric Chassignet</dc:creator>
  <dc:description/>
  <dc:language>en-US</dc:language>
  <cp:lastModifiedBy>Eric Chassignet</cp:lastModifiedBy>
  <dcterms:modified xsi:type="dcterms:W3CDTF">2002-04-25T07:57:00Z</dcterms:modified>
  <cp:revision>17</cp:revision>
  <dc:subject/>
  <dc:title>LOM 2002</dc:title>
</cp:coreProperties>
</file>