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B39-2B27-4073-A554-B141B740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188-F317-4356-9868-59248E80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7EF-5EE2-42F2-8487-8E2D8113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050-5B77-4C10-A5B6-35F4BC83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6B9-913F-43F0-AED9-CBB2B015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474-940A-41A4-B0FD-BD06643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7C2-E0CA-483C-A9B3-A418C62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495-9308-416F-9CFD-21735643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EBE-A9E1-49DD-9CBF-A5F86268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80E-5FB8-4E8A-85BB-8AD54EFB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6BF-C2A1-41C4-9D1C-4D52B2E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EDEA-5BDF-44E5-BD45-3DE35DD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44BF-A85A-4548-8BC3-D4E74621E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1447920"/>
            <a:ext cx="8229600" cy="3886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1480" y="341280"/>
            <a:ext cx="356256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33960" y="557208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1053360" y="2521080"/>
            <a:ext cx="7049520" cy="1739880"/>
            <a:chOff x="1053360" y="2521080"/>
            <a:chExt cx="7049520" cy="1739880"/>
          </a:xfrm>
        </p:grpSpPr>
        <p:sp>
          <p:nvSpPr>
            <p:cNvPr id="46" name=""/>
            <p:cNvSpPr/>
            <p:nvPr/>
          </p:nvSpPr>
          <p:spPr>
            <a:xfrm>
              <a:off x="4473360" y="252720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53360" y="2521080"/>
              <a:ext cx="704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HYCO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(HYbrid Coordinate Ocean Model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Developmen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6600" y="548784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GOMD, Ham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ay 5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8440" y="380880"/>
            <a:ext cx="85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TLANTIC BASIN-SCA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914400"/>
            <a:ext cx="78487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the CME, DYNAMO and MICOM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respectiv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ME comparison is completed (sigma-thet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ma2, and sigma2 + thermobaricity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Chassignet et al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raf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outine (interannual forcing – 40 years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progress (3 years climatology, 3 years 6-hou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ing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, Wallcraft, Chassignet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880" y="4840200"/>
            <a:ext cx="816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 ATLANTIC REGIONAL SIMUL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720" y="5499000"/>
            <a:ext cx="789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a-American (Caribbean) Sea (standard config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data assimilation testing)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Townsend, Wallcraf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71440" y="380880"/>
            <a:ext cx="69058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igh-resolution 1/12° North Atlantic HYCOM simulati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99" name="ssh.02.030" descr=""/>
          <p:cNvPicPr/>
          <p:nvPr/>
        </p:nvPicPr>
        <p:blipFill>
          <a:blip r:embed="rId2"/>
          <a:stretch/>
        </p:blipFill>
        <p:spPr>
          <a:xfrm>
            <a:off x="2681280" y="1090440"/>
            <a:ext cx="5776920" cy="5538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281952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1600" y="609480"/>
            <a:ext cx="67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IFIC BASIN-SCALE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73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1/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1/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Metzger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2720" y="3252960"/>
            <a:ext cx="62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IFIC REGIONAL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444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1/3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pan/East Se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, Hurlbur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3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East Asian Sea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[Hoga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ACa0.32_010_ssh_npac" descr=""/>
          <p:cNvPicPr/>
          <p:nvPr/>
        </p:nvPicPr>
        <p:blipFill>
          <a:blip r:embed="rId1"/>
          <a:stretch/>
        </p:blipFill>
        <p:spPr>
          <a:xfrm>
            <a:off x="399960" y="-2577960"/>
            <a:ext cx="8437680" cy="1091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77080" y="30492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11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global in place (.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itial target for consort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200-year 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ed integrations with the G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mospheric model: a control run and a perturb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 assuming gradual doubling of CO2 (Bleck and Su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pling to Hadley Center Atmospheric Model (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gann, A. New)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MIP (R. Bleck, W. Cheng, D. 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66280" y="749160"/>
            <a:ext cx="622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PLING TO COASTAL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7804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gions under considerations (Florida B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sissipi Bigh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 advantage of the smooth transition to sig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s in shallow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upling to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38080"/>
            <a:ext cx="883944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27672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nering/collaborating organizations are the University of Miami/RSMAS, the Naval Research Laboratory, NOAA/AOML, the Los Alamos National Laboratory, NERSC, LEGI, the Service Hydrographique et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graphique de la Marine (SHOM), NAVOCEANO, Planning Systems Inc., Orbital Image Corp., and the U.S.Coast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5244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-institutional effort on the development and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-assimilative hybrid isopycnal-sigma-pressure (generalized coordinate) ocean model (called  Hybrid Coordinate Oc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YC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934320" y="257040"/>
            <a:ext cx="1371600" cy="36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62800" y="6305400"/>
            <a:ext cx="2057400" cy="2192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276720" y="6108840"/>
            <a:ext cx="609480" cy="609480"/>
            <a:chOff x="3276720" y="6108840"/>
            <a:chExt cx="609480" cy="609480"/>
          </a:xfrm>
        </p:grpSpPr>
        <p:sp>
          <p:nvSpPr>
            <p:cNvPr id="55" name=""/>
            <p:cNvSpPr/>
            <p:nvPr/>
          </p:nvSpPr>
          <p:spPr>
            <a:xfrm>
              <a:off x="3276720" y="6108840"/>
              <a:ext cx="60948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3276720" y="610884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984240" y="6191280"/>
            <a:ext cx="1219320" cy="428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4560" y="264960"/>
            <a:ext cx="760680" cy="3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525680" y="228600"/>
            <a:ext cx="4554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790720" y="257040"/>
            <a:ext cx="1905120" cy="4017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562720" y="152280"/>
            <a:ext cx="533160" cy="533520"/>
            <a:chOff x="5562720" y="152280"/>
            <a:chExt cx="533160" cy="533520"/>
          </a:xfrm>
        </p:grpSpPr>
        <p:sp>
          <p:nvSpPr>
            <p:cNvPr id="62" name=""/>
            <p:cNvSpPr/>
            <p:nvPr/>
          </p:nvSpPr>
          <p:spPr>
            <a:xfrm>
              <a:off x="5562720" y="152280"/>
              <a:ext cx="533160" cy="5335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9"/>
            <a:stretch/>
          </p:blipFill>
          <p:spPr>
            <a:xfrm>
              <a:off x="5562720" y="157680"/>
              <a:ext cx="533160" cy="52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navologo" descr=""/>
          <p:cNvPicPr/>
          <p:nvPr/>
        </p:nvPicPr>
        <p:blipFill>
          <a:blip r:embed="rId10"/>
          <a:stretch/>
        </p:blipFill>
        <p:spPr>
          <a:xfrm>
            <a:off x="4911840" y="6037200"/>
            <a:ext cx="8287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1240" y="127080"/>
            <a:ext cx="8943840" cy="661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640" y="174600"/>
            <a:ext cx="822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omputational goal of the consortium is the establishment of a global eddy-resolving real-time ocean forecast system with sophisticated data assimilation techniques that can be efficiently executed on massively parallel compu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20720" y="26827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ODAE 2003-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62200" y="354168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8680" y="1062000"/>
            <a:ext cx="891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brid coordinate is one that i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opyc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pen, stratified ocean, but smoothly reverts to 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errain-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in shallow coastal regions, an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s in the mixed layer and/or unstratified 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9408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72" name="xsectew" descr=""/>
          <p:cNvPicPr/>
          <p:nvPr/>
        </p:nvPicPr>
        <p:blipFill>
          <a:blip r:embed="rId2"/>
          <a:stretch/>
        </p:blipFill>
        <p:spPr>
          <a:xfrm>
            <a:off x="1219320" y="3165480"/>
            <a:ext cx="6781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320" y="38160"/>
            <a:ext cx="8991360" cy="670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80" y="876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bility of assigning additional coordinate surfaces to the oceanic mixed layer allows for  sophisticated closure scheme, such as the K-Profile Parameterization (KPP) (Halliwell, 2002). Also available KT, PWP, 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444840" y="24120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76" name="ekmantrdwwin" descr=""/>
          <p:cNvPicPr/>
          <p:nvPr/>
        </p:nvPicPr>
        <p:blipFill>
          <a:blip r:embed="rId2"/>
          <a:stretch/>
        </p:blipFill>
        <p:spPr>
          <a:xfrm>
            <a:off x="2462040" y="2438280"/>
            <a:ext cx="4091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228600"/>
            <a:ext cx="8753400" cy="646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03160" y="1662120"/>
            <a:ext cx="7570800" cy="3849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483000" y="41904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814400" y="5859360"/>
            <a:ext cx="54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: Bleck (2002, Ocean Model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05200" y="103176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: Hybrid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57440" y="31752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 2.1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680400" y="1108080"/>
            <a:ext cx="79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s limitations of HYCOM 1.0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date to Fortran 90 styl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MPI/SHMEM option (with either MPI or Open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able at compile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halos for MPI to automatically support period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nested-domain open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y global (Pan-Am gr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ized orthogonal coord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CDF output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HYCOM can  be run in isopycnic mod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.e.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opyc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e only (MICOM 2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COM manual and user’s guide (draft avail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30360" y="1400040"/>
            <a:ext cx="607536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62280" y="98280"/>
          <a:ext cx="6046560" cy="637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98280"/>
                    <a:ext cx="6046560" cy="637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990720"/>
            <a:ext cx="77724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EB PAG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ttp://hycom.rsmas.miami.ed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98680" y="4844880"/>
            <a:ext cx="79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 P. Chassignet (echassignet@rsmas.miami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13:15:26Z</dcterms:created>
  <dc:creator>Eric Chassignet</dc:creator>
  <dc:description/>
  <dc:language>en-US</dc:language>
  <cp:lastModifiedBy>Eric Chassignet</cp:lastModifiedBy>
  <dcterms:modified xsi:type="dcterms:W3CDTF">2002-08-09T14:38:28Z</dcterms:modified>
  <cp:revision>155</cp:revision>
  <dc:subject/>
  <dc:title>GODAE IGST VI</dc:title>
</cp:coreProperties>
</file>