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249-302B-42BF-872A-B433CF7A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1A32-DDFA-4D68-9A92-5F4A99F8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514-B7AC-48B6-96F4-63EB1872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829-3BBE-4725-9F45-DAE8CAA9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945-2819-4A94-B1E8-6DED1D9C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DF8-B174-40CC-A55B-B62FD002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CD0-C637-441C-A691-78023FFD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B1F3-CB07-4CD8-86A5-F28E1A90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2C5-5BC9-44C5-B72C-62117867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38B-E4F1-47E0-8E16-504455CE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DF1-7D6C-4FF1-BD4B-560DD710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DDD-DEB4-45E9-A458-320D0C73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0DAB-7460-4E1A-B314-BCC84E36D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EFFECTS OF ENTRAINMENT CLOSURE ON THE OCEANIC MIXED LAYER RESPONSE DURING A TROPICAL CYCLONE PASSAGE: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A NUMERICAL INVEST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19051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erdana"/>
              </a:rPr>
              <a:t>S. Daniel Jacob, Lynn K. Shay and George R. Halli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Meteorology and Physical Oceanogra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Rosenstiel School of Marine and Atmospheric 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University of Miami, Miami, FL 3314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29000" y="3429000"/>
            <a:ext cx="2313000" cy="2224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5791320"/>
            <a:ext cx="8610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Drs. Peter Black (NOAA/HRD), Rainer Bleck (LAN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Alan Wallcraft (NRL Stenn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USWRP - NSF Sponsored project: ATM-97-14855 and ATM-01-082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OVI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2971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PRT</a:t>
            </a: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90840" y="585720"/>
            <a:ext cx="5962320" cy="568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60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2369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1219320"/>
            <a:ext cx="17524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Blue - Gas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Green - 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Red - 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Cyan - D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ENTRAINMENT AND SURFACE FLUXES POINT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929280" cy="6124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29528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Blue -Cas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Green -Cas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Red -Case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ODEL-DATA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7257960" cy="6553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609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cc"/>
                </a:solidFill>
                <a:uFillTx/>
                <a:latin typeface="Verdana"/>
              </a:rPr>
              <a:t>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5960" y="2286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cc"/>
                </a:solidFill>
                <a:uFillTx/>
                <a:latin typeface="Verdana"/>
              </a:rPr>
              <a:t>ST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9640" y="388620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cc"/>
                </a:solidFill>
                <a:uFillTx/>
                <a:latin typeface="Verdana"/>
              </a:rPr>
              <a:t>WAK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9640" y="541008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cc"/>
                </a:solidFill>
                <a:uFillTx/>
                <a:latin typeface="Verdana"/>
              </a:rPr>
              <a:t>WAK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HYbrid Coordinate Ocean Model (HYCOM)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lbertus Medium (W1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ybrid Coordinate System – Physical Adap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igher order mixing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ain: Gulf of Mex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olution: 0.07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4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osed B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niti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iescent Conditions from average prestorm AXBT (Case 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10666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Bleck 200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com Q Mov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477120" cy="6324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14479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Gas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2000" y="4724280"/>
            <a:ext cx="75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MY2.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06840" y="152388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K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35560" y="480060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PW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8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6933960" cy="6629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1295280"/>
            <a:ext cx="16765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Blue: Gas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Green: K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Red: MY2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Cyan: PW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oth MICOM and HYCOM simulations show a strong oceanic ML budget dependence on the entrainment closure scheme in the directly forced reg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lications for storm intens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MICOM, MLTs simulated using Pollard, Rhines and Thompson (1973) entrainment scheme compare better with observations during and after the storm pass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ceanic background conditions are essential for realistic simulations in coupled models as indicated by better model-data compariso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alistic initialization of HYCOM consistent with observ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ison of realistic HYCOM results with data and detailed analy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ustomizing the higher order schemes for wind induced mixing.  Critical Richardson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vestigation of momentum and heat transfer coeffici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ENTR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Based on Observational Analysis (Jacob et al., JPO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trainment is the dominant mechanism in the mixed lay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xed layer heat and mass budgets strongly depend upon the entrainment scheme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Numerical Model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asured and simulated quantities based on different hypothesis are used to compute entrainment mix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COM: Gaspar (1988) scheme that uses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en-US" sz="1800" spc="-1" strike="noStrike" baseline="-44000">
                <a:solidFill>
                  <a:srgbClr val="ffffff"/>
                </a:solidFill>
                <a:latin typeface="Verdana"/>
              </a:rPr>
              <a:t>*</a:t>
            </a:r>
            <a:r>
              <a:rPr b="0" lang="en-US" sz="1800" spc="-1" strike="noStrike" baseline="-44000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to prescribe entrainment rate. Observations suggest the presence of strong near-inertial shears at the ML b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lbertus Medium (W1)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Verdana"/>
              </a:rPr>
              <a:t>Entrainment Mixing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Layered Miami Isopycnic Coordinate Ocea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Gaspar (198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Kraus and Turner (196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ollard, Rhines and Thompson (1973), Price (198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eardorff (198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ybrid Coordinate Ocea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Gaspar (198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K Profile Parameterization (Large et al. 199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ellor and Yamada (1974) Level 2.5 K-</a:t>
            </a:r>
            <a:r>
              <a:rPr b="0" lang="el-GR" sz="1600" spc="-1" strike="noStrike">
                <a:solidFill>
                  <a:srgbClr val="ffffff"/>
                </a:solidFill>
                <a:latin typeface="Verdana"/>
              </a:rPr>
              <a:t>ε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sche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ice et al. (1986) sche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Compare model results to Gilbert (1988) 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Miami Isopycnic Coordinate Ocean Model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lbertus Medium (W1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licit Mixed Layer Phy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tural Discontinuity for different water m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ain: Gulf of Mex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olution: 0.07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5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osed B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niti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iescent Conditions from average prestorm AXBT (Case 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alistic Conditions from Yearday 200 data (Cas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2819520" cy="228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8520" y="10666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Bleck and Smith 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Verdana"/>
              </a:rPr>
              <a:t>WIND FIELD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20541" t="23709" r="12414" b="26384"/>
          <a:stretch/>
        </p:blipFill>
        <p:spPr>
          <a:xfrm>
            <a:off x="1523880" y="920880"/>
            <a:ext cx="6161040" cy="5937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OVI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600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Gas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77320" y="15238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24680" y="4876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D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04800" y="538200"/>
            <a:ext cx="6134400" cy="578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Verdana"/>
              </a:rPr>
              <a:t>QUANTITATIVE COMPARISON: LOCATIONS AND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76520" y="979560"/>
            <a:ext cx="5530680" cy="5878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193000" cy="6854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1219320"/>
            <a:ext cx="17524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Blue - Gas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Green - 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Red - 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Cyan - D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Verdana"/>
              </a:rPr>
              <a:t>TEMPERATURE-SALINITY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84880" cy="572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17524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Cas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229600" y="1828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Case E GC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Cas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53280" y="48006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Case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4T01:15:35Z</dcterms:created>
  <dc:creator>Daniel Jacob</dc:creator>
  <dc:description/>
  <dc:language>en-US</dc:language>
  <cp:lastModifiedBy>S. Daniel Jacob</cp:lastModifiedBy>
  <dcterms:modified xsi:type="dcterms:W3CDTF">2002-04-27T18:29:21Z</dcterms:modified>
  <cp:revision>119</cp:revision>
  <dc:subject/>
  <dc:title>ON THE ROLE OF OCEANIC MESOSCALE FEATURES ON THE TROPICAL CYCLONE INDUCED RESPONSE</dc:title>
</cp:coreProperties>
</file>