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0FC-A5DA-4C72-9B82-9E54B68E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B7E-CEE1-4418-AB71-B72FFF7A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061-B312-48F8-B994-C650AF98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33B-22D5-458B-ADA7-AE3CBD81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5DA8-4163-43FB-8458-2D80B57C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9197-11EA-4F6A-A4BF-69669568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B2AB-5661-43DC-8728-EF60AC72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CDBF-CAD5-4225-BFDF-BF96E21B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5DF0-5E6D-437B-8E35-ED862E86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C472-6EDA-45EE-916E-08B32075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39C4-FE48-49BD-AFD5-1226A78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8BD-D76C-4C2C-AABA-254FAD0C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B74A-0118-4D4F-B7A0-223E0160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878D-74E3-473F-A0BC-720A7C82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D6F9-51B2-4ED1-A589-0FFAD8AA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CC71-497C-4E47-9D1A-0B49EA6B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C6C4-5719-4B73-91AB-F3CA61C4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077-549E-4565-93F1-2E3259F6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F1D-F538-4E4A-9605-1A441C1D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2ED-F424-4CF9-84D7-67CD83EB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069-C51F-43DD-AF52-AB7A3DF5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F0B-9BEB-49AD-A899-5548DC8A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B20-663F-4940-8EB8-C3813CD5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167-794B-4B3F-ABBF-95543E02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BF7A-EB57-4D55-874C-4BD844D906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EC00-F12A-4482-933D-64080604A3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ie_ssh_annual.gif" TargetMode="External"/><Relationship Id="rId2" Type="http://schemas.openxmlformats.org/officeDocument/2006/relationships/hyperlink" Target="file:///movie_ssh_monthly.gif" TargetMode="External"/><Relationship Id="rId3" Type="http://schemas.openxmlformats.org/officeDocument/2006/relationships/hyperlink" Target="file:///movie_mth_annual.gif" TargetMode="External"/><Relationship Id="rId4" Type="http://schemas.openxmlformats.org/officeDocument/2006/relationships/hyperlink" Target="file:///movie_mth_monthly.gif" TargetMode="External"/><Relationship Id="rId5" Type="http://schemas.openxmlformats.org/officeDocument/2006/relationships/hyperlink" Target="file:///movie_shf_annual.gif" TargetMode="External"/><Relationship Id="rId6" Type="http://schemas.openxmlformats.org/officeDocument/2006/relationships/hyperlink" Target="file:///movie_shf_monthly.gif" TargetMode="External"/><Relationship Id="rId7" Type="http://schemas.openxmlformats.org/officeDocument/2006/relationships/hyperlink" Target="file:///movie_ico_annual.gif" TargetMode="External"/><Relationship Id="rId8" Type="http://schemas.openxmlformats.org/officeDocument/2006/relationships/hyperlink" Target="file:///movie_ico_monthly.gif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movie_tem_z0_ann.gif" TargetMode="External"/><Relationship Id="rId2" Type="http://schemas.openxmlformats.org/officeDocument/2006/relationships/hyperlink" Target="file:///movie_tem_z0_monthly.gif" TargetMode="External"/><Relationship Id="rId3" Type="http://schemas.openxmlformats.org/officeDocument/2006/relationships/hyperlink" Target="file:///movie_sal_z0_ann.gif" TargetMode="External"/><Relationship Id="rId4" Type="http://schemas.openxmlformats.org/officeDocument/2006/relationships/hyperlink" Target="file:///movie_sal_z0_monthly.gif" TargetMode="External"/><Relationship Id="rId5" Type="http://schemas.openxmlformats.org/officeDocument/2006/relationships/hyperlink" Target="file:///movie_rho_z0_ann.gif" TargetMode="External"/><Relationship Id="rId6" Type="http://schemas.openxmlformats.org/officeDocument/2006/relationships/hyperlink" Target="file:///movie_rho_z0_monthly.gif" TargetMode="External"/><Relationship Id="rId7" Type="http://schemas.openxmlformats.org/officeDocument/2006/relationships/hyperlink" Target="file:///movie_tem_zm_ann.gif" TargetMode="External"/><Relationship Id="rId8" Type="http://schemas.openxmlformats.org/officeDocument/2006/relationships/hyperlink" Target="file:///movie_tem_zm_monthly.gif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9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YCOM GLBx2.00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Experi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39621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ve Bi and Alan Wallcra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MAS/MPO, University of Mia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RL Stenn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gust, 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orizontal and Vertical Struct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al Desig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 Results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es movie show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Surface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Water Mass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orizontal and Vertical Distrib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Horizontal Curr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odel Configuration: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orizontal Gr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3504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rcator mesh of resolution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ºx2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s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 is used south of 6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. At this latitude, the Mercator projection smoothly  transitions to a bipolar projection with poles over Canada and Siberia but without grid singularity over the ocean are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52578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odel Configuration: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ertical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YCOM global version (GLBx2.00) represents the ocean by 26 layers vertically, using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  <a:ea typeface="Arial"/>
              </a:rPr>
              <a:t>σ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 (potential density referenced to the sea surface) as vertical coordinate in the ocean interior. However, coordinate surfaces level off to become constant-depth surface wherever the isopycnals they follow outcrop at the sea surfac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s figure shows a snap shot of the layers along the 20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ºW meridia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05320" y="1839960"/>
            <a:ext cx="54496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orc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ADS monthly atmospheric climatology, including wind stresses, wind speed, solar radiation, net radiation, moisture, etc.. No fresh water flux (E-P) is applied. In stead, the sea surface salinity is relaxed to Levitus climatolo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odel ocean is initialized with the Levitus climatology, i.e., monthly salinity and tempera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ergy loa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ixed layer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P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u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38 ye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esult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face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 Surface He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ed layer thick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face heat fl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 ice concen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esul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er mass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face distribu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T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S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D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structure (zonal avera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erature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inity         (annual mean and seasonal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ification  (annual mean and seasonal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esul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rizontal curr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ed Layer Velo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mean  and  Seasonal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rzontal currents at 1000m dep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mean  and  Seasonal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7:06:40Z</dcterms:created>
  <dc:creator>david bi</dc:creator>
  <dc:description/>
  <dc:language>en-US</dc:language>
  <cp:lastModifiedBy>david bi</cp:lastModifiedBy>
  <dcterms:modified xsi:type="dcterms:W3CDTF">2002-08-13T21:23:38Z</dcterms:modified>
  <cp:revision>17</cp:revision>
  <dc:subject/>
  <dc:title>Slide 1</dc:title>
</cp:coreProperties>
</file>